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E47-B885-445E-A717-034BE9F0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672-3054-4B89-BC6D-41D84C03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F57DB-0EC1-44C8-AFB0-892278E4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AAFA9-3913-4CEE-AEE0-BB34C0E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E67F-F61C-436F-97C1-11F2D7F1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7595B-7D3C-460C-9764-5F0E98C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16E44-4762-43EB-B2DF-F98C83DE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F574-2523-4083-AA3D-F19C5D5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7A8D0-11CA-4E95-9716-040FEFAF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80AD4-8A22-424B-AD9D-F1731103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40F5C-DE5B-4AB6-8844-B9F8577B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A82C7-CEFF-4D30-9535-120F0132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093-48EE-40D6-B460-1E8BA11A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9E625-B9C9-4C1B-9D58-82D1D311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98BA5-A151-42AC-A970-A4895622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11010-717E-478C-8230-60E6D586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01B06-B248-47EB-A228-46B2F54E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E10D6-5599-424E-9749-FFCFA56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E4B0D-200A-4B80-A8E6-757EE237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BAE0C-14A5-44AD-8006-94E9B20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AD704-06F1-4538-BB87-280F45E0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4155C-F53C-40A6-853B-7724BBBD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3FB2D-C0B7-44ED-8C45-8499647C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1B6-7996-4EE7-9819-F3963373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BA298-40A6-4205-B825-F4BEDD76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B5AB2-363B-47C8-9FA9-D0480783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13CB0-51E3-4F25-8FD0-AE5F2817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BAC51-412C-426C-AC39-9FF40FC2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4A735-CDCC-48F0-8926-CBB1CAC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A6EAB-DB53-4AC8-9F34-353DA1EF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E669-E167-4ED9-9BE4-E9854F7C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17033-0786-42DA-827C-5A2833A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2FE27-FC3A-494F-9ED9-76147596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4AAAF-EF9B-4549-8FBB-15D95C01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0BA2-F5BF-43EB-8ACA-6479CC6A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D2401-1190-49C2-AA66-F17BEB2F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33E21-C9D5-4AA4-A2C5-1185FE76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E9ED6-B1A1-4CA3-9DE8-D29D8A2E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CF54B-D269-4555-9C77-86E64B6C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4AD62-0DD6-45C7-8EAA-8331BCFF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42A1D-0D55-4B0A-A574-3BE7D305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825D1-96AC-4976-BB93-1B9D1F0B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95BC4-CBA2-4F51-96DB-DD5E2380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FA9F8-B4E7-4397-8C63-DFB4D7E2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0D532-96D9-4A26-835F-E3094FFA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8907-14D1-4E37-98B1-C21AB865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B4D61-A31E-4FE6-9048-9AED247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895DA-78CD-416F-854E-FE4DF89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F2FCC-47EE-4235-8BC9-2118897A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CAA35-94D7-48F4-9871-94386283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FDE56-773D-4126-B89F-F5E814DD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C73C-175C-4B70-B537-9AC27932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2DE-4D28-4A64-A81E-F0D145FA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DE07-1893-461F-ABFF-A54C0E2E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CE9-A16B-4311-846F-FBA5A0BA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41DA-46AB-4D98-9BCE-3FE10C62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02B-5191-4903-9E3A-FF8A0DEA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5080-92BB-4522-81E2-C65019F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874E-8B7E-4D6A-BAAB-A83E40C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0047-380C-4652-96BF-D6CB7D10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1F5F-24CB-427C-9869-020F6FD2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BD2A-DA18-4877-BCBD-A988DCE5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2965-17DE-4FDB-96CF-6E8EDF27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F26E-B3CE-4D4D-9B1E-410824EF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3A8B-A5AD-4914-8589-DCEC0912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AFBB-C737-4C53-98D4-B87CF567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6B49-8A0E-43FC-921F-AF7FB24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D53-4823-4C82-AD33-287C568F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4372-6262-4F85-89A0-94DE4D9E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B9A4-A399-4303-8E46-712EF9E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3591-C168-4FFC-B271-184F655D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C8E8-AB10-408E-AC8F-8088284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5907-510A-4F6E-BC5C-9CBFCD57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E236-1D4E-470E-A709-84819237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B167-534C-4204-812A-DEDD8D28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82D1-E6CA-440B-BBC3-71119622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7AED9-132B-4A4E-9D4D-E706C889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3E3C-44A9-415A-A444-25936368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304-1811-457B-A75E-2523F76E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CDD9-5FB6-475B-8381-77C1350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96E9C-DFEA-4084-A0E4-B514F6E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1449-43A1-4A90-9CBD-A32CEE74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5FAC-D943-48F3-AC9C-89DB69F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3535-825F-4621-8A50-0D2657CD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B873-A873-4FF1-86CC-875798A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5013-4F74-4AFA-85C6-C4F4A67C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75EC-4986-4149-A0AC-0763B6FD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8842-B2E6-43CC-A8A1-9FCF9766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C832-9AF0-4B9B-9080-489D2994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932-6B2C-464F-9F77-0BB1F873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99334-5EDF-40DB-9291-EEF60167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B0C2-C3EB-4B64-AF6B-D3D16D0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4274-F26C-4A35-8366-1C2ACD06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0886-7B4E-40F9-8BED-5A12C843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A377-B442-4A6C-9637-4C445832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0F978-8AEA-468F-B28E-4D865F3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5F860-05AF-4249-A85E-F28A29D5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FE2A-64F5-4D92-A4FA-611D3C7D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AD219-E8AC-4EDA-89ED-42AA7546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9AE0-D7CD-4B4F-8421-409A06AD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9EF-8B38-4A10-9CA9-81002D97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0D9FD-02F6-4497-8E8C-B3B60C14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8C5B9-9AE2-4B5C-B7FC-C7E5B6D7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F234-86AB-4E80-BB80-678D9A19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C878B-D7C0-4D44-AC76-B118B289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0556-C556-4B3B-ACB1-F1BA2AB6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2429-018D-4A0A-A275-129B700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CB4F-02FF-44FB-A67D-EE2F5FF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F39E-CA1E-443F-8A54-C6858F5E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2007-36FB-4F50-92BA-7D19F90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E141-4D37-4309-96A1-9D6538D2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A42-FE3F-4697-9484-3D82B86B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4E7BA-7662-467D-9335-88D13C1E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5A8E2-8751-4C1C-B40B-7E18A206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8EBF-C8F6-43E9-B221-DC5D3C6E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B027-8DA5-4753-9410-150F3837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E773A-E5B9-4991-BDB8-04C7D0D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60451-78DD-4666-9EBB-ED0ACCF4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654AD-8120-4CAF-B1AD-67E9F23B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BB2EC-CB71-4783-BE80-9F93F9EC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F13F9-273A-45A9-BE64-1A252ED3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B81E6-BAEA-459C-9AB9-FD5F9771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3D9-8A93-4385-9F0D-271C76F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BEAD2-E7F4-4B1F-B079-E2539DC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DE904-7E18-43E1-A1C7-9C14FE93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BEB01-AB96-4CA9-AD80-577DD667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37B74-E957-497E-93BC-EEEEAB13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AF3B-3D97-4F22-A031-DF6B5EA1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6711C-E6AC-465D-8E1B-104F1E3F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870AA-2611-473E-91F5-DD2B82A6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02090-A413-44AF-A731-AA1F2716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36B17-1B09-419E-9216-AB46AB2F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B298E-7E77-4F39-B3E9-5C8769FC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8D1-DCE6-4F86-A33D-79ED237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93E7F-268F-4A7D-8281-0FD6C8BC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011C1-03D8-4B23-A1A3-5A184E6C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3E2C2-8FA2-4478-913F-2BBDBC15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A47C2-5E43-4994-AC6D-30966436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F3AE3-6471-4F3F-8FFE-5E3FFD24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A0E14-3B40-4B65-BF54-210A9518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C0206-1450-47BF-BD8F-D0B3B21A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A4513-B2E8-43E8-B549-09FFEA4B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F0810-5B19-40E8-AC5C-D8983C0B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8965E-58D6-4B07-B5F2-65367544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0CAC-B607-4798-8EA5-9295DC2EB4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E6B2-5D51-4CC6-BE6F-1C8344F5F0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BAF5-4C43-4304-98FE-E56DD2B34E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0F47-FE54-4F02-B024-3267A40ACD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5E7-45C7-4968-B481-988D3A4056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A575-33B0-4FBD-A233-C4539FF67E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7691-78FD-482B-BD68-A78D5BB60C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94B8-63C3-4A64-8917-9E26B121AD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B364-E339-4BB8-AD62-6810C22F89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AEA-6561-419D-B433-59369C1CE0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130-A767-48E0-BAC5-519259F09E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70A7-A406-4CB8-842A-E986408166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2 Príde skoro už ten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de skoro už ten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každá bolesť vzdi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emä hriechu spadne z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za oko nezakal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ľ a smútok prest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večná na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zko doba, tešme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skončí utrp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ou hľaďme k nebe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kiaľ máme vykú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ujme Pán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me stále hotov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53:32Z</dcterms:modified>
  <cp:revision>22</cp:revision>
  <dc:subject/>
  <dc:title>Je veľký náš Pán, on slávy je Kráľ Nech do všetkých strán  spev vrúcnych znie chvál.</dc:title>
</cp:coreProperties>
</file>